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F1BC2-F347-4DEC-813D-4EB89E29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CECD3-7802-4E7D-8908-48B4A42D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8FF87-9B9F-4AC5-A0CE-FE785209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6D4B9-2C7C-463B-B132-9633BAAC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BCA6-1804-4D0C-A25F-F5143E363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0722-0477-4539-9C04-743C2BB6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A550-10A0-4E6A-9049-C352C929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1397-047B-4216-A688-DBCF2E59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C829-19A5-4D86-ABCA-F59C7694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6AFE-88A3-4B71-B92B-DB109177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102C-7555-4A56-A332-511246E5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31D15-9F00-4F73-9CCB-712BD251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457D-A853-4F52-9A79-45A4402E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34EC-5757-408E-9CDB-4E3720C4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EF79-5677-44CE-B1DE-826E0D8B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0F2E-2041-485B-A3E0-4AEDCFA9F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987A-950C-4881-A7FF-10942892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2FDA7-C83C-44AA-8E7F-A74E81F4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DC71A-C2C6-47E1-AEE3-3A2D7947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FD508-C35E-4FD8-BFA7-C6ED7196C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DD7E1-20AA-48FB-A96D-24971D89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E580B-385C-4461-B616-FB539A61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AF274-5CE7-4093-8797-4F1B04D2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6D61D-17B2-48FB-B2E4-DC7CFA31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BBC5-C8B0-4775-8296-6915506913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B179-184A-40A0-A3D4-470A6FDB31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ro/imgres?imgurl=http://teoretic.com/wp-content/uploads/2009/04/chimpanzee_thinking_poster.jpg&amp;imgrefurl=http://teoretic.com/2009/04/20/pastele-masii-doar-o-injuratura-comuna/&amp;usg=__d0nWuCEKorRp_Qd3Jq5U_RFMBoM=&amp;h=383&amp;w=299&amp;sz=18&amp;hl=ro&amp;start=1&amp;zoom=1&amp;um=1&amp;itbs=1&amp;tbnid=FAWNwV6wEUnXPM:&amp;tbnh=123&amp;tbnw=96&amp;prev=/images%3Fq%3Dthinking%26um%3D1%26hl%3Dro%26rlz%3D1R2ADRA_enRO391%26tbs%3Disch: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iunghiul dreptunghi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Funcţii trigonomet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0"/>
          <p:cNvGrpSpPr/>
          <p:nvPr/>
        </p:nvGrpSpPr>
        <p:grpSpPr>
          <a:xfrm>
            <a:off x="539640" y="1268280"/>
            <a:ext cx="6224760" cy="4921560"/>
            <a:chOff x="539640" y="1268280"/>
            <a:chExt cx="6224760" cy="4921560"/>
          </a:xfrm>
        </p:grpSpPr>
        <p:sp>
          <p:nvSpPr>
            <p:cNvPr id="194" name="AutoShape 10"/>
            <p:cNvSpPr/>
            <p:nvPr/>
          </p:nvSpPr>
          <p:spPr>
            <a:xfrm rot="7493400">
              <a:off x="1946160" y="1864080"/>
              <a:ext cx="2817000" cy="403380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2"/>
            <p:cNvSpPr/>
            <p:nvPr/>
          </p:nvSpPr>
          <p:spPr>
            <a:xfrm>
              <a:off x="5865840" y="357228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2255040" y="1268280"/>
              <a:ext cx="76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4"/>
            <p:cNvSpPr/>
            <p:nvPr/>
          </p:nvSpPr>
          <p:spPr>
            <a:xfrm>
              <a:off x="539640" y="3525840"/>
              <a:ext cx="89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000" y="407664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sinus = raportul dintre cateta opusă şi ipotenuz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sinus = raportul dintre cateta alăturată şi ipotenuz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tangentă = raportul dintre cateta opusă şi cateta alăturat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tangentă = raportul dintre cateta alăturată şi cateta opus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al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area unei lucr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ări în care prezentăm cum aplicăm aceste teoreme la rezolvarea unor probleme din viaţa de zi cu 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Lucrare scris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4797360"/>
            <a:ext cx="12938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 este triunghiul dreptunghi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numeste triunghi dreptunghic, triunghiul care are un unghi dr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8"/>
          <p:cNvGrpSpPr/>
          <p:nvPr/>
        </p:nvGrpSpPr>
        <p:grpSpPr>
          <a:xfrm>
            <a:off x="4067280" y="3284640"/>
            <a:ext cx="3817800" cy="2449440"/>
            <a:chOff x="4067280" y="3284640"/>
            <a:chExt cx="3817800" cy="2449440"/>
          </a:xfrm>
        </p:grpSpPr>
        <p:sp>
          <p:nvSpPr>
            <p:cNvPr id="120" name="AutoShape 5"/>
            <p:cNvSpPr/>
            <p:nvPr/>
          </p:nvSpPr>
          <p:spPr>
            <a:xfrm rot="16200000">
              <a:off x="4751280" y="2600280"/>
              <a:ext cx="2449440" cy="381780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7667640" y="5516640"/>
              <a:ext cx="217440" cy="217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m se numesc laturile triunghiului dreptungh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2920" y="3429000"/>
            <a:ext cx="403884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, AC – cat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- ipotenu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7"/>
          <p:cNvGrpSpPr/>
          <p:nvPr/>
        </p:nvGrpSpPr>
        <p:grpSpPr>
          <a:xfrm>
            <a:off x="748080" y="1989000"/>
            <a:ext cx="3925440" cy="4126680"/>
            <a:chOff x="748080" y="1989000"/>
            <a:chExt cx="3925440" cy="4126680"/>
          </a:xfrm>
        </p:grpSpPr>
        <p:grpSp>
          <p:nvGrpSpPr>
            <p:cNvPr id="125" name="Group 15"/>
            <p:cNvGrpSpPr/>
            <p:nvPr/>
          </p:nvGrpSpPr>
          <p:grpSpPr>
            <a:xfrm>
              <a:off x="748080" y="1989000"/>
              <a:ext cx="3925440" cy="4126680"/>
              <a:chOff x="748080" y="1989000"/>
              <a:chExt cx="3925440" cy="4126680"/>
            </a:xfrm>
          </p:grpSpPr>
          <p:sp>
            <p:nvSpPr>
              <p:cNvPr id="126" name="AutoShape 8"/>
              <p:cNvSpPr/>
              <p:nvPr/>
            </p:nvSpPr>
            <p:spPr>
              <a:xfrm rot="3084000">
                <a:off x="1815480" y="2649240"/>
                <a:ext cx="2198520" cy="2745000"/>
              </a:xfrm>
              <a:prstGeom prst="rtTriangl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9"/>
              <p:cNvSpPr/>
              <p:nvPr/>
            </p:nvSpPr>
            <p:spPr>
              <a:xfrm>
                <a:off x="3270240" y="1989000"/>
                <a:ext cx="36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10"/>
              <p:cNvSpPr/>
              <p:nvPr/>
            </p:nvSpPr>
            <p:spPr>
              <a:xfrm rot="21458400">
                <a:off x="755280" y="3722040"/>
                <a:ext cx="31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1"/>
              <p:cNvSpPr/>
              <p:nvPr/>
            </p:nvSpPr>
            <p:spPr>
              <a:xfrm rot="21475200">
                <a:off x="2441520" y="574020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Rectangle 16"/>
            <p:cNvSpPr/>
            <p:nvPr/>
          </p:nvSpPr>
          <p:spPr>
            <a:xfrm rot="2952600">
              <a:off x="1208160" y="3912120"/>
              <a:ext cx="192240" cy="235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3480" y="54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 proprietate au unghiurile ascutite ale unui triunghi dreptunghi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5545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ghiurile ascutite ale unui triunghi dreptunghic sunt complement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(&lt;B) + m(&lt;C)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4"/>
          <p:cNvGrpSpPr/>
          <p:nvPr/>
        </p:nvGrpSpPr>
        <p:grpSpPr>
          <a:xfrm>
            <a:off x="4676760" y="2952360"/>
            <a:ext cx="3515400" cy="2950920"/>
            <a:chOff x="4676760" y="2952360"/>
            <a:chExt cx="3515400" cy="2950920"/>
          </a:xfrm>
        </p:grpSpPr>
        <p:sp>
          <p:nvSpPr>
            <p:cNvPr id="134" name="AutoShape 9"/>
            <p:cNvSpPr/>
            <p:nvPr/>
          </p:nvSpPr>
          <p:spPr>
            <a:xfrm rot="16225800">
              <a:off x="5354280" y="3075480"/>
              <a:ext cx="2198880" cy="27446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0"/>
            <p:cNvSpPr/>
            <p:nvPr/>
          </p:nvSpPr>
          <p:spPr>
            <a:xfrm rot="21322200">
              <a:off x="4690800" y="5363640"/>
              <a:ext cx="36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 rot="21473400">
              <a:off x="7713720" y="5526360"/>
              <a:ext cx="4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2"/>
            <p:cNvSpPr/>
            <p:nvPr/>
          </p:nvSpPr>
          <p:spPr>
            <a:xfrm rot="21473400">
              <a:off x="7661880" y="2959560"/>
              <a:ext cx="4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3"/>
            <p:cNvSpPr/>
            <p:nvPr/>
          </p:nvSpPr>
          <p:spPr>
            <a:xfrm rot="16094400">
              <a:off x="7614360" y="5338800"/>
              <a:ext cx="192240" cy="235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912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m se calculeaza aria si perimetrul unui triunghi dreptunghic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7"/>
          <p:cNvGrpSpPr/>
          <p:nvPr/>
        </p:nvGrpSpPr>
        <p:grpSpPr>
          <a:xfrm>
            <a:off x="611280" y="1773360"/>
            <a:ext cx="3889080" cy="3783240"/>
            <a:chOff x="611280" y="1773360"/>
            <a:chExt cx="3889080" cy="3783240"/>
          </a:xfrm>
        </p:grpSpPr>
        <p:sp>
          <p:nvSpPr>
            <p:cNvPr id="141" name="AutoShape 10"/>
            <p:cNvSpPr/>
            <p:nvPr/>
          </p:nvSpPr>
          <p:spPr>
            <a:xfrm>
              <a:off x="1261440" y="2057760"/>
              <a:ext cx="2374560" cy="322668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2"/>
            <p:cNvSpPr/>
            <p:nvPr/>
          </p:nvSpPr>
          <p:spPr>
            <a:xfrm>
              <a:off x="611280" y="1773360"/>
              <a:ext cx="7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3"/>
            <p:cNvSpPr/>
            <p:nvPr/>
          </p:nvSpPr>
          <p:spPr>
            <a:xfrm>
              <a:off x="611280" y="518832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4"/>
            <p:cNvSpPr/>
            <p:nvPr/>
          </p:nvSpPr>
          <p:spPr>
            <a:xfrm>
              <a:off x="3745440" y="5094360"/>
              <a:ext cx="7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5"/>
            <p:cNvSpPr/>
            <p:nvPr/>
          </p:nvSpPr>
          <p:spPr>
            <a:xfrm>
              <a:off x="2988000" y="3956760"/>
              <a:ext cx="7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6"/>
            <p:cNvSpPr/>
            <p:nvPr/>
          </p:nvSpPr>
          <p:spPr>
            <a:xfrm flipV="1">
              <a:off x="1261440" y="4240440"/>
              <a:ext cx="1619640" cy="10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18"/>
          <p:cNvSpPr/>
          <p:nvPr/>
        </p:nvSpPr>
        <p:spPr>
          <a:xfrm>
            <a:off x="5072040" y="485784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1"/>
              <p:cNvSpPr txBox="1"/>
              <p:nvPr/>
            </p:nvSpPr>
            <p:spPr>
              <a:xfrm>
                <a:off x="5143680" y="1857240"/>
                <a:ext cx="21049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3"/>
              <p:cNvSpPr txBox="1"/>
              <p:nvPr/>
            </p:nvSpPr>
            <p:spPr>
              <a:xfrm>
                <a:off x="5072040" y="3286080"/>
                <a:ext cx="21049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etatea medianei corespunzatoare ipotenuz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71320" y="2142720"/>
            <a:ext cx="7900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tr-un triunghi dreptunghic, lungimea medianei corespunzătoare ipotenuzei este egală cu jumătate din lungimea ipotenuz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3"/>
          <p:cNvGrpSpPr/>
          <p:nvPr/>
        </p:nvGrpSpPr>
        <p:grpSpPr>
          <a:xfrm>
            <a:off x="2421000" y="3071880"/>
            <a:ext cx="5718240" cy="2936880"/>
            <a:chOff x="2421000" y="3071880"/>
            <a:chExt cx="5718240" cy="2936880"/>
          </a:xfrm>
        </p:grpSpPr>
        <p:sp>
          <p:nvSpPr>
            <p:cNvPr id="156" name="AutoShape 9"/>
            <p:cNvSpPr/>
            <p:nvPr/>
          </p:nvSpPr>
          <p:spPr>
            <a:xfrm rot="16352400">
              <a:off x="4282200" y="2258640"/>
              <a:ext cx="2198520" cy="44960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 rot="21448800">
              <a:off x="2428560" y="5363640"/>
              <a:ext cx="59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1"/>
            <p:cNvSpPr/>
            <p:nvPr/>
          </p:nvSpPr>
          <p:spPr>
            <a:xfrm>
              <a:off x="7367040" y="5640480"/>
              <a:ext cx="7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7437240" y="307188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3"/>
            <p:cNvSpPr/>
            <p:nvPr/>
          </p:nvSpPr>
          <p:spPr>
            <a:xfrm rot="16221000">
              <a:off x="7419960" y="5565240"/>
              <a:ext cx="156960" cy="1404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Conector drept 10"/>
          <p:cNvSpPr/>
          <p:nvPr/>
        </p:nvSpPr>
        <p:spPr>
          <a:xfrm flipH="1" flipV="1">
            <a:off x="5428800" y="4500360"/>
            <a:ext cx="2143080" cy="12142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setăText 20"/>
          <p:cNvSpPr/>
          <p:nvPr/>
        </p:nvSpPr>
        <p:spPr>
          <a:xfrm>
            <a:off x="5000760" y="42148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000080" y="4000680"/>
                <a:ext cx="16858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ircl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eorema înălţim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9640" y="119700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tr-un triunghi dreptunghic, înălţimea dusă din vârful unghiului drept este medie proporţională între segmentele determinate de ea pe ipotenuz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24000" y="3715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=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BD ∙  D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7"/>
          <p:cNvGrpSpPr/>
          <p:nvPr/>
        </p:nvGrpSpPr>
        <p:grpSpPr>
          <a:xfrm>
            <a:off x="900000" y="2565360"/>
            <a:ext cx="4041000" cy="3741840"/>
            <a:chOff x="900000" y="2565360"/>
            <a:chExt cx="4041000" cy="3741840"/>
          </a:xfrm>
        </p:grpSpPr>
        <p:sp>
          <p:nvSpPr>
            <p:cNvPr id="168" name="AutoShape 10"/>
            <p:cNvSpPr/>
            <p:nvPr/>
          </p:nvSpPr>
          <p:spPr>
            <a:xfrm>
              <a:off x="1575720" y="2846160"/>
              <a:ext cx="2467440" cy="31874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900000" y="2565360"/>
              <a:ext cx="7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900000" y="5938920"/>
              <a:ext cx="6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4156560" y="584604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369960" y="472212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 flipV="1">
              <a:off x="1575720" y="5002560"/>
              <a:ext cx="1683000" cy="10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eorema catet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tr-un triunghi dreptunghic, o catetă este medie proporţională între segmentele ipotenuză şi proiecţia ei pe ipotenuz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066920" y="4436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7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=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BD ∙ 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=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CD ∙ 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7"/>
          <p:cNvGrpSpPr/>
          <p:nvPr/>
        </p:nvGrpSpPr>
        <p:grpSpPr>
          <a:xfrm>
            <a:off x="900000" y="2565360"/>
            <a:ext cx="4041000" cy="3741840"/>
            <a:chOff x="900000" y="2565360"/>
            <a:chExt cx="4041000" cy="3741840"/>
          </a:xfrm>
        </p:grpSpPr>
        <p:sp>
          <p:nvSpPr>
            <p:cNvPr id="178" name="AutoShape 10"/>
            <p:cNvSpPr/>
            <p:nvPr/>
          </p:nvSpPr>
          <p:spPr>
            <a:xfrm>
              <a:off x="1575720" y="2846160"/>
              <a:ext cx="2467440" cy="31874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2"/>
            <p:cNvSpPr/>
            <p:nvPr/>
          </p:nvSpPr>
          <p:spPr>
            <a:xfrm>
              <a:off x="900000" y="2565360"/>
              <a:ext cx="7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900000" y="5938920"/>
              <a:ext cx="6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4"/>
            <p:cNvSpPr/>
            <p:nvPr/>
          </p:nvSpPr>
          <p:spPr>
            <a:xfrm>
              <a:off x="4156560" y="584604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5"/>
            <p:cNvSpPr/>
            <p:nvPr/>
          </p:nvSpPr>
          <p:spPr>
            <a:xfrm>
              <a:off x="3369960" y="472212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6"/>
            <p:cNvSpPr/>
            <p:nvPr/>
          </p:nvSpPr>
          <p:spPr>
            <a:xfrm flipV="1">
              <a:off x="1575720" y="5002560"/>
              <a:ext cx="1683000" cy="10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eorema lui Pitag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5280" y="1268280"/>
            <a:ext cx="8353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tr-un triunghi dreptunghic, suma lungimilor pătratelor catetelor este egală cu pătratul ipotenuz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347640" y="3715920"/>
            <a:ext cx="4969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+ AC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= BC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4"/>
          <p:cNvGrpSpPr/>
          <p:nvPr/>
        </p:nvGrpSpPr>
        <p:grpSpPr>
          <a:xfrm>
            <a:off x="539640" y="2565360"/>
            <a:ext cx="4041720" cy="3742200"/>
            <a:chOff x="539640" y="2565360"/>
            <a:chExt cx="4041720" cy="3742200"/>
          </a:xfrm>
        </p:grpSpPr>
        <p:sp>
          <p:nvSpPr>
            <p:cNvPr id="188" name="AutoShape 10"/>
            <p:cNvSpPr/>
            <p:nvPr/>
          </p:nvSpPr>
          <p:spPr>
            <a:xfrm>
              <a:off x="1215360" y="2846160"/>
              <a:ext cx="2467800" cy="318816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2"/>
            <p:cNvSpPr/>
            <p:nvPr/>
          </p:nvSpPr>
          <p:spPr>
            <a:xfrm>
              <a:off x="539640" y="2565360"/>
              <a:ext cx="78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3"/>
            <p:cNvSpPr/>
            <p:nvPr/>
          </p:nvSpPr>
          <p:spPr>
            <a:xfrm>
              <a:off x="539640" y="5939280"/>
              <a:ext cx="6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4"/>
            <p:cNvSpPr/>
            <p:nvPr/>
          </p:nvSpPr>
          <p:spPr>
            <a:xfrm>
              <a:off x="3796920" y="584640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8:24:54Z</dcterms:created>
  <dc:creator>Bugs Bunny</dc:creator>
  <dc:description/>
  <dc:language>en-US</dc:language>
  <cp:lastModifiedBy>Cursant17</cp:lastModifiedBy>
  <dcterms:modified xsi:type="dcterms:W3CDTF">2010-08-25T09:12:17Z</dcterms:modified>
  <cp:revision>24</cp:revision>
  <dc:subject/>
  <dc:title>Triunghiul dreptunghic</dc:title>
</cp:coreProperties>
</file>